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CF7-2C45-4EAC-B626-0C200751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7101-1296-47C0-BE35-5BBD950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DD78D-F061-48F2-9942-792289F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43764-2D1D-4A02-B756-3CBF3043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6ABE-3A9A-46C5-9712-CD6C37D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436A6-F9A6-4C02-9DF2-3636B4D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1441-9D36-4176-B8B0-0A4184B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299FD-F596-423A-AF3D-56CE707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C5E25-6A31-4AAA-93C1-73228F6A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D0E80-05D4-48B8-A2FE-6A769EDB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ADB4D-B532-4D23-8700-B5468976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29719-3989-4021-AAF7-158B962B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0EF-564C-4523-9048-0C8B3A93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2AE7C-D26C-49EE-ACFD-39C0F1D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A4815-B7C4-4A7D-AD20-4A2D796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C2D81-85AB-451C-B813-3B675479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709C1-8214-4C95-B774-39C9D20F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D4843-E8FC-419D-8EF8-63B5F6E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DFD5F-2371-4E19-812B-0BFCB17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907A2-4FFA-45ED-AE65-8B53F64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4D4D7-E956-4FAB-B0BE-19F16E3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83B23-3842-4D30-A5B9-890D2C1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69DCF-4CF1-4EAD-AB05-45B38616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FB5-18F0-449C-95DD-80DCAA15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41115-056D-442E-B0BB-DF653696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40F8-876A-4B04-975D-6AC0747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5C03E-27A1-411D-AD77-45CC6AA1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52F5-5D2A-4CA0-A3AC-0332ED5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D87C-EAC2-4B9C-A307-13DCB260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DB5FE-771A-49B4-B9D5-6F5108FE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62CE-3D87-4B46-BD3C-271BF2A9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4F469-AB49-45D6-B7CD-E8BCC81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C21EB-49D2-4589-B549-BB1A0412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B45F6-B86D-413C-9009-DF6F4243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BD8A-0919-4ED1-83A1-A9463A5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11B6A-8BA8-4F7F-A72E-90396374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F9BC2-941B-4E6C-B7F9-77C3D3E7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0178B-43FA-41FF-88B7-BFF9E877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B4ECE-A5C8-4A52-892A-D54946A6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45F91-F9AA-4864-90A0-889873E6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EBB1-4E57-45E5-AA87-F6D4F0D9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7FD87-6ABE-4266-A8EE-A0AD197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B7833-D6B4-47CD-9B61-52410BA9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167AA-A738-4DF1-99C3-2FBA95DF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9560A-BAB1-4583-9938-FF22C93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AE0E-4008-48DC-9649-9D549ACC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B567F-C107-429D-B1A7-77E97B4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8C1A2-C55D-4AEF-95EB-19FF6C0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C9069-440E-476F-80EE-A78FB1A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32EB7-4B32-4F9D-B5D6-D1028836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8C0DF-3CE5-44D4-8FFC-E51628A0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99FB-F55D-4C4F-ACA4-ADC0E7E5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154-6C67-4345-92BE-5DC45205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38B1-F40B-42B2-BA48-21B3CB0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878-8A1B-4452-8B4A-88FC3B2D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5EFB-0EC5-47D0-AB7D-F688A059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187-8597-4A90-958E-27EBCC56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7E00-8FFD-45BE-93DC-35FE4A3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1959-4817-492E-A7FF-4B51D3D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BFF5-DDDC-4AE5-B08B-90DD7CB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C1C-B438-4DAE-88E8-23828952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752B-C91F-4F19-A4A7-57AE70ED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6582-E9F1-4243-9778-2ACCFD7E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A057-125B-491B-9EC6-4B8B16A2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9082-3E9B-4BF9-87B2-1D131C7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C2A7-E9A8-49B1-B5F4-8036AD3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D3F6-0475-4EE0-A4D2-25DBF28D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5957-A33F-4BFE-B3CB-4C1CDEAD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29DA-7199-4856-8CDC-2353A6BE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D4DD-976D-4E1A-B7F7-41BBF9F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712A-B4AD-4EA2-9380-AC7BF0D3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FA41-429F-4FD5-96D6-502AFCAB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F2BC-2944-4E0B-AADF-CC741E99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61B0-1015-4947-B5DB-40999A55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B59D-675F-4762-8969-006F5DCC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6FCAB-F74D-4EED-A3EC-6EB3FE30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2D4C-DF61-4612-8FB5-6321BB52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1C47-4AA8-48EA-8B2A-516CAA7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678-A66D-49DD-ABE0-8458804E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C8B59-B5EF-4C6D-A957-0D2B1098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2BE4-43D7-4258-96B9-D326D1E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A568-9762-4087-8BFE-526494B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39C9-F124-4A81-B275-01F84692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F1947-9E19-4B9C-9F25-71F3B62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7C5F9-7403-4BE9-A1E2-F92606C4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81FD-55BD-402C-8F84-82299FD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4CF1-15B2-4A35-8047-665AE3E2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BA6B2-4446-4CD3-827E-671C2898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F2E5-8A97-40EA-9CBC-26D47A48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168-5C89-4572-A750-11BCD57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4279-A00A-407A-A0CA-C9269874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DB78-D3CD-43E8-AA67-C0FD766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CF02-BCAC-43D8-A2B7-C3B6F4EC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A4A2-B5F8-4DC0-A051-EB183423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F381-BD9E-41BF-AD5D-4310F626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964B-7820-4D0D-9CBD-B530E0B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F716-9245-4951-9C4B-4B6216E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F9BB-C810-43B2-8C3A-F7C27A2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468B-554B-44CD-9C81-112A30B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319A-B627-4190-B4D2-7C566D12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EA5-C446-4734-A148-6B38B70A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EE4CE-BC46-44D3-874A-351BC326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F84D-2D02-463F-9F01-C9156AFD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CA6E-0D80-4EAC-AF73-4C63BD63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3D430-8EBB-4D36-97CE-1363A3FD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68303-C237-47F7-A84E-C9545DE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B9205-B5E0-4DB6-BCAE-6A75F3F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F507-8F22-49D3-B6AF-50399CE6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90C7-1F34-4D72-9BB8-DF260E0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17C3-B58B-4952-AB86-A944BEE8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5E8A-DCAA-4EF5-9439-9B0F17F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842-D9C0-4A82-A743-F36B950D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66A61-52BC-4028-A736-3E4DEF8B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9C354-7C5A-4506-926B-546100C1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2675D-1459-4796-80A0-DC869B92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EA606-5DFA-4404-B3EC-6A4250DF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49D8-E6E2-44BA-BFDE-B89C3B7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41F7-79BE-49D8-B262-C3FFED3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AE7B2-9589-4164-8470-262BB9D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9321-9364-4AEC-958C-BADFD1E5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6779-D434-43B4-8134-EF99874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C7EAD-CB4D-433F-9B11-FF94BB1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FFE-7B55-4FA4-A4A9-CCE2A27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F08E-6B68-44B1-AACA-2093383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D7BA-35B4-44A6-BB01-FA5FF8C6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C692-504F-4077-987D-B2B7562C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CA457-AF45-4B47-A3AC-1A036B71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4EAE-C61E-4214-9B6A-8CF4C13B3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B8F6B-DDB9-435C-BE1D-5190400B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245E-5D4C-4DCD-8AF4-C0B1DB5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9A928-B6C5-4B32-B996-F008DA8D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E08FB-D3C4-4EED-B229-6257D1F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0EF70-9715-4E8D-863F-6D0FCF4B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C41-DAC0-47C1-916B-E3441AEF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8DDC-90C1-4A2D-ACF0-7E18D235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80BB5-3C7F-488B-9245-B37A51A3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FEC0-48EB-4E2D-82EB-9C74F97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E978-EF80-45FF-9AEB-3A4D6B83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B3281-ABB3-499E-BEDB-6298CCF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B1F4-F91D-4297-AD6B-3AF009F9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BC4BF-CA0B-46ED-83CE-B0B86042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4FECC-23DF-4440-9AD1-52B7687B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D049-529A-4FBA-B3B8-473BDDA6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BB205-2E7E-44B6-AB48-D2888DFB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73B-FB05-474B-9E12-BD89EEF6E705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B6F8-9461-4FED-96ED-E87146156ECC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B82D-75D8-4B69-887B-3B2BDBB018A9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4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9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A48-66AE-4384-A5D2-819368F52FD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0CB8-DB14-4A02-AC67-79C7DD49FAD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AB0D-FBD4-435B-977E-680D3ACF28C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3E0E-2552-4424-81EB-2794EA26ECD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10A-ED16-489E-8431-99F955D5843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6AE-EB5D-4B4B-AE0A-DB8874A5CA8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58320" cy="6986520"/>
            <a:chOff x="73080" y="-55440"/>
            <a:chExt cx="9058320" cy="698652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58320" cy="69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B7A-4648-40BC-A75B-701DFBB01C0A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gdz-gramota.ru/biografii-pisatelei-dlia-detei/agniia-barto-biografiia" TargetMode="External"/><Relationship Id="rId2" Type="http://schemas.openxmlformats.org/officeDocument/2006/relationships/hyperlink" Target="https://obrazovaka.ru/alpha/b/barto-agniya-barto-agniya" TargetMode="External"/><Relationship Id="rId3" Type="http://schemas.openxmlformats.org/officeDocument/2006/relationships/hyperlink" Target="https://ihappymama.ru/iq/zagadki/zagadki-pro-muravya/" TargetMode="External"/><Relationship Id="rId4" Type="http://schemas.openxmlformats.org/officeDocument/2006/relationships/hyperlink" Target="https://zagadki.info/zag/tokar.html" TargetMode="External"/><Relationship Id="rId5" Type="http://schemas.openxmlformats.org/officeDocument/2006/relationships/hyperlink" Target="http://rebus1.com/index.php?item=rebus_generator&amp;slovo=%D2%CE%CA%C0%D0%DC&amp;skip=6&amp;mode=0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Горизонтальный свиток 4"/>
          <p:cNvSpPr/>
          <p:nvPr/>
        </p:nvSpPr>
        <p:spPr>
          <a:xfrm>
            <a:off x="1857240" y="214200"/>
            <a:ext cx="5715000" cy="200052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Агния Львовна Бар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42600" y="2286000"/>
            <a:ext cx="728676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нтеллектуальн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иг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«Триг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Автор иг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Селиверстова Надежда Юрье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C:\Users\Миллениум\Desktop\мама\барто.jpg"/>
          <p:cNvPicPr/>
          <p:nvPr/>
        </p:nvPicPr>
        <p:blipFill>
          <a:blip r:embed="rId1"/>
          <a:stretch/>
        </p:blipFill>
        <p:spPr>
          <a:xfrm>
            <a:off x="714240" y="2290680"/>
            <a:ext cx="3252960" cy="3353040"/>
          </a:xfrm>
          <a:prstGeom prst="rect">
            <a:avLst/>
          </a:prstGeom>
          <a:ln w="0">
            <a:noFill/>
          </a:ln>
        </p:spPr>
      </p:pic>
      <p:sp>
        <p:nvSpPr>
          <p:cNvPr id="546" name="TextBox 6"/>
          <p:cNvSpPr/>
          <p:nvPr/>
        </p:nvSpPr>
        <p:spPr>
          <a:xfrm>
            <a:off x="6215040" y="1214280"/>
            <a:ext cx="1143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3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Вьется стружка над станком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Папа с техникой знаком.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Он из дерева и стали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Ловко выточит детали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Даже сделает игрушки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Bookman Old Style"/>
              </a:rPr>
              <a:t>Для меня и для Ваню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C:\Users\Миллениум\Desktop\мама\лош.jpg"/>
          <p:cNvPicPr/>
          <p:nvPr/>
        </p:nvPicPr>
        <p:blipFill>
          <a:blip r:embed="rId1"/>
          <a:stretch/>
        </p:blipFill>
        <p:spPr>
          <a:xfrm rot="20566800">
            <a:off x="4664160" y="4037040"/>
            <a:ext cx="1976400" cy="1881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C:\Users\Миллениум\Desktop\мама\быч.jpg"/>
          <p:cNvPicPr/>
          <p:nvPr/>
        </p:nvPicPr>
        <p:blipFill>
          <a:blip r:embed="rId2"/>
          <a:stretch/>
        </p:blipFill>
        <p:spPr>
          <a:xfrm>
            <a:off x="1000080" y="4000680"/>
            <a:ext cx="3048120" cy="2000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C:\Users\Миллениум\Desktop\мама\мед.jpg"/>
          <p:cNvPicPr/>
          <p:nvPr/>
        </p:nvPicPr>
        <p:blipFill>
          <a:blip r:embed="rId3"/>
          <a:stretch/>
        </p:blipFill>
        <p:spPr>
          <a:xfrm>
            <a:off x="6715080" y="1509840"/>
            <a:ext cx="206712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3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Рабочий – специалист по механической обработке твердых материалов, по токарному де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 токар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4 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А.Барто любила детей, но редко посвящала родным детям. Она предпочитала  искать своих героев в детских лагерях, школах. Как вы думаете, для кого Барто написала стихотворение «Наша Таня громко плачет?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6" descr="C:\Users\Миллениум\Desktop\мама\таня 2.jpg"/>
          <p:cNvPicPr/>
          <p:nvPr/>
        </p:nvPicPr>
        <p:blipFill>
          <a:blip r:embed="rId1"/>
          <a:stretch/>
        </p:blipFill>
        <p:spPr>
          <a:xfrm>
            <a:off x="4000680" y="3857760"/>
            <a:ext cx="3214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743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499760" y="1428480"/>
            <a:ext cx="6929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Лицо женского пола по отношению к своим род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1" descr="C:\Users\Миллениум\Desktop\мама\семья.jpg"/>
          <p:cNvPicPr/>
          <p:nvPr/>
        </p:nvPicPr>
        <p:blipFill>
          <a:blip r:embed="rId1"/>
          <a:stretch/>
        </p:blipFill>
        <p:spPr>
          <a:xfrm>
            <a:off x="1500120" y="2357280"/>
            <a:ext cx="58579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C:\Users\Миллениум\Desktop\мама\бабушка.jpg"/>
          <p:cNvPicPr/>
          <p:nvPr/>
        </p:nvPicPr>
        <p:blipFill>
          <a:blip r:embed="rId1"/>
          <a:stretch/>
        </p:blipFill>
        <p:spPr>
          <a:xfrm>
            <a:off x="928800" y="1143000"/>
            <a:ext cx="2557440" cy="28576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C:\Users\Миллениум\Desktop\мама\мама 1.jpg"/>
          <p:cNvPicPr/>
          <p:nvPr/>
        </p:nvPicPr>
        <p:blipFill>
          <a:blip r:embed="rId2"/>
          <a:stretch/>
        </p:blipFill>
        <p:spPr>
          <a:xfrm>
            <a:off x="6072120" y="1143000"/>
            <a:ext cx="2143080" cy="3000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Users\Миллениум\Desktop\мама\дочь.jpg"/>
          <p:cNvPicPr/>
          <p:nvPr/>
        </p:nvPicPr>
        <p:blipFill>
          <a:blip r:embed="rId3"/>
          <a:stretch/>
        </p:blipFill>
        <p:spPr>
          <a:xfrm>
            <a:off x="3714840" y="2286000"/>
            <a:ext cx="2286000" cy="238608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5"/>
          <p:cNvSpPr/>
          <p:nvPr/>
        </p:nvSpPr>
        <p:spPr>
          <a:xfrm>
            <a:off x="2880" y="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33"/>
                </a:solidFill>
                <a:latin typeface="Arial"/>
                <a:ea typeface="Times New Roman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7"/>
          <p:cNvSpPr/>
          <p:nvPr/>
        </p:nvSpPr>
        <p:spPr>
          <a:xfrm>
            <a:off x="1000080" y="40719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баб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9"/>
          <p:cNvSpPr/>
          <p:nvPr/>
        </p:nvSpPr>
        <p:spPr>
          <a:xfrm>
            <a:off x="6858000" y="421488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1"/>
          <p:cNvSpPr/>
          <p:nvPr/>
        </p:nvSpPr>
        <p:spPr>
          <a:xfrm>
            <a:off x="4214880" y="464328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кт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1143000" y="5448240"/>
            <a:ext cx="60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  <a:ea typeface="Times New Roman"/>
              </a:rPr>
              <a:t>Ответ: доч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56840" y="785880"/>
            <a:ext cx="7101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 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7058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Кто сидели в спичечном коробке в стихотворении «Юный натуралист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2" descr="C:\Users\Миллениум\Desktop\мама\коробок.jpg"/>
          <p:cNvPicPr/>
          <p:nvPr/>
        </p:nvPicPr>
        <p:blipFill>
          <a:blip r:embed="rId1"/>
          <a:stretch/>
        </p:blipFill>
        <p:spPr>
          <a:xfrm>
            <a:off x="4929120" y="3071880"/>
            <a:ext cx="2643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74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5 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714240" y="1428840"/>
            <a:ext cx="8072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Эти насекомые очень дружны. Их можно встретить и дома , и в лесу, и даже на огороде. Они играют важную роль в природе, уничтожают вредных насекомых. Питаются сладки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соками растений, тля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Могут быть разных цветов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чёрные, коричневы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красные, жёлтые и даж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Bookman Old Style"/>
              </a:rPr>
              <a:t>полосат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4" descr="I:\мама\жук.jpg"/>
          <p:cNvPicPr/>
          <p:nvPr/>
        </p:nvPicPr>
        <p:blipFill>
          <a:blip r:embed="rId1"/>
          <a:stretch/>
        </p:blipFill>
        <p:spPr>
          <a:xfrm>
            <a:off x="6429240" y="4357800"/>
            <a:ext cx="22194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5 гон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Непосильную поклажу,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  Нёс без всякого куражу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  Он трудяга, каких мало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  И сородичей орава: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  Всех на свете он сильней —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  Рыжий крошка…</a:t>
            </a: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56800" y="4785840"/>
            <a:ext cx="657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 муравь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785960" y="571680"/>
            <a:ext cx="6143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О ком идет речь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стихотворении А.Бар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«Фонарик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2" descr="C:\Users\Миллениум\Desktop\мама\ф 1.jpg"/>
          <p:cNvPicPr/>
          <p:nvPr/>
        </p:nvPicPr>
        <p:blipFill>
          <a:blip r:embed="rId1"/>
          <a:stretch/>
        </p:blipFill>
        <p:spPr>
          <a:xfrm>
            <a:off x="6215040" y="1643040"/>
            <a:ext cx="2357640" cy="25002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C:\Users\Миллениум\Desktop\мама\ф 2.jpg"/>
          <p:cNvPicPr/>
          <p:nvPr/>
        </p:nvPicPr>
        <p:blipFill>
          <a:blip r:embed="rId2"/>
          <a:stretch/>
        </p:blipFill>
        <p:spPr>
          <a:xfrm>
            <a:off x="1428840" y="3214800"/>
            <a:ext cx="27860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6840" y="1071720"/>
            <a:ext cx="8472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Днём насекомые отдыхают на траве, прячутся под корой, камнями, а ночью те, что способны летать, летают плавно и быстро. Ночные животные обладают удивительной способностью излучать свет. Имеются специальные органы свечения — лантерны. В Японии ежегодно отмечают Хотаругари — праздник любования этими насекомыми. Питаются пыльцой и нектаром растений, а другие, это маленькие хищники. В мире их становится всё меньше. Это происходит из-за изменения климата, а также  из-за того, что места обитания  занимает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 г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28400" y="1071360"/>
            <a:ext cx="8258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Агния Барто родилась в 1906 году в крепкой еврейской семье. Отец будущей поэтессы, Лев Николаевич Волов, работая ветеринарным врачом, в свободное от работы время любил писать стихи и сказки. Девочка всегда гордилась своим отцом и отчеством. Мама, Мария Ильинична, посвятила свою жизнь семье и дочери. Она была человеком весёлым и добрым.  А в каком городе родилась Барт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 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Содержимое 3" descr="book2-page039.jpg"/>
          <p:cNvPicPr/>
          <p:nvPr/>
        </p:nvPicPr>
        <p:blipFill>
          <a:blip r:embed="rId1"/>
          <a:srcRect l="13160" t="42709" r="47056" b="50004"/>
          <a:stretch/>
        </p:blipFill>
        <p:spPr>
          <a:xfrm>
            <a:off x="1928880" y="1785960"/>
            <a:ext cx="5357880" cy="171432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4"/>
          <p:cNvSpPr/>
          <p:nvPr/>
        </p:nvSpPr>
        <p:spPr>
          <a:xfrm>
            <a:off x="857160" y="4572000"/>
            <a:ext cx="700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 светлячок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Он провел беседу в школе —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Говорил, открыв тетрадь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Сколько соды, сколько соли,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Сколько масла нужно бр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Доказал, что вместо масла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Можно брать и маргарин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Из какого стихотворения Барто взяты эти строк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Bookman Old Style"/>
              </a:rPr>
              <a:t>Являются основным угощением и символом Масленицы. Их пекут каждый день с понедельника по воскресенье. Эта традиция была на Руси еще со времен поклонения языческим богам.  Каждая хозяйка по традиции имела свой особенный рецепт приготовления этого блюда, который передавался из поколения в поколение по женской линии. Пекли их в основном из пшеничной, гречневой, овсяной, кукурузной муки, добавляя в них пшенную или манную кашу, картофель, тыкву, яблоки, сли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 гон</a:t>
            </a:r>
            <a:br>
              <a:rPr sz="4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На горячей сковородке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   Нужно печь их очень ловко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Зазевался разговором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И они вмиг станут комом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С мёдом как они вкусны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Бабушкины те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71680" y="4428720"/>
            <a:ext cx="62863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блинчи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Рисунок 3" descr="Загадки про блины"/>
          <p:cNvPicPr/>
          <p:nvPr/>
        </p:nvPicPr>
        <p:blipFill>
          <a:blip r:embed="rId1"/>
          <a:stretch/>
        </p:blipFill>
        <p:spPr>
          <a:xfrm>
            <a:off x="6286680" y="3571920"/>
            <a:ext cx="2376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https://gdz-gramota.ru/biografii-pisatelei-dlia-detei/agniia-barto-biografi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2"/>
              </a:rPr>
              <a:t>https://obrazovaka.ru/alpha/b/barto-agniya-barto-agni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3"/>
              </a:rPr>
              <a:t>https://ihappymama.ru/iq/zagadki/zagadki-pro-muravy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4"/>
              </a:rPr>
              <a:t>https://zagadki.info/zag/toka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Calibri"/>
                <a:hlinkClick r:id="rId5"/>
              </a:rPr>
              <a:t>http://rebus1.com/index.php?item=rebus_generator&amp;slovo=%D2%CE%CA%C0%D0%DC&amp;skip=6&amp;mode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obrazovanie66.ru/prof/toka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s://www.karusel-tv.ru/news/80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//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20100208/20786756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 г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Прямоугольник 2"/>
          <p:cNvSpPr/>
          <p:nvPr/>
        </p:nvSpPr>
        <p:spPr>
          <a:xfrm>
            <a:off x="571680" y="1071720"/>
            <a:ext cx="807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Город богат архитектурными памятниками. Это и необычайно красивый Храм Василия Блаженного, или Собор Покрова Пресвятой Богородицы, дом-музей В.М.Васнецова, Оружейная  палата, Новодевичий монасты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3" descr="https://static.tonkosti.ru/tonkosti/table_img/g83/1f1f/55417561.jpg"/>
          <p:cNvPicPr/>
          <p:nvPr/>
        </p:nvPicPr>
        <p:blipFill>
          <a:blip r:embed="rId1"/>
          <a:stretch/>
        </p:blipFill>
        <p:spPr>
          <a:xfrm>
            <a:off x="6357960" y="3643200"/>
            <a:ext cx="2166840" cy="171468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4" descr="Новодевичий монастырь - достопримечательности Москвы"/>
          <p:cNvPicPr/>
          <p:nvPr/>
        </p:nvPicPr>
        <p:blipFill>
          <a:blip r:embed="rId2"/>
          <a:stretch/>
        </p:blipFill>
        <p:spPr>
          <a:xfrm>
            <a:off x="3571920" y="3857760"/>
            <a:ext cx="2543040" cy="185724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5" descr="https://static.tonkosti.ru/tonkosti/table_img/g83/c7c7/83768716.jpg"/>
          <p:cNvPicPr/>
          <p:nvPr/>
        </p:nvPicPr>
        <p:blipFill>
          <a:blip r:embed="rId3"/>
          <a:stretch/>
        </p:blipFill>
        <p:spPr>
          <a:xfrm>
            <a:off x="714240" y="4071960"/>
            <a:ext cx="257184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 г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Прямоугольник 2"/>
          <p:cNvSpPr/>
          <p:nvPr/>
        </p:nvSpPr>
        <p:spPr>
          <a:xfrm>
            <a:off x="1071720" y="12142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Bookman Old Style"/>
              </a:rPr>
              <a:t>Столиц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3"/>
          <p:cNvSpPr/>
          <p:nvPr/>
        </p:nvSpPr>
        <p:spPr>
          <a:xfrm>
            <a:off x="500040" y="3786120"/>
            <a:ext cx="621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 Моск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4" descr="Московский кремль и Красная площадь - достопримечательности Москвы"/>
          <p:cNvPicPr/>
          <p:nvPr/>
        </p:nvPicPr>
        <p:blipFill>
          <a:blip r:embed="rId1"/>
          <a:stretch/>
        </p:blipFill>
        <p:spPr>
          <a:xfrm>
            <a:off x="3571920" y="1785960"/>
            <a:ext cx="4857840" cy="292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2 г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Прямоугольник 2"/>
          <p:cNvSpPr/>
          <p:nvPr/>
        </p:nvSpPr>
        <p:spPr>
          <a:xfrm>
            <a:off x="642960" y="207180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Кем в детстве мечтала стать Агния Бар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Картинки для детей «Врач и его инструменты» (32 фото) | Дошкольные учебные  мероприятия, Врачи, Детские рисунки"/>
          <p:cNvPicPr/>
          <p:nvPr/>
        </p:nvPicPr>
        <p:blipFill>
          <a:blip r:embed="rId1"/>
          <a:stretch/>
        </p:blipFill>
        <p:spPr>
          <a:xfrm>
            <a:off x="1000080" y="3571920"/>
            <a:ext cx="1928880" cy="2668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Раскраски Профессии | Школьные темы, Школьные идеи, Школа"/>
          <p:cNvPicPr/>
          <p:nvPr/>
        </p:nvPicPr>
        <p:blipFill>
          <a:blip r:embed="rId2"/>
          <a:stretch/>
        </p:blipFill>
        <p:spPr>
          <a:xfrm>
            <a:off x="3643200" y="3429000"/>
            <a:ext cx="1857600" cy="24764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C:\Users\Миллениум\Desktop\мама\парик.jpg"/>
          <p:cNvPicPr/>
          <p:nvPr/>
        </p:nvPicPr>
        <p:blipFill>
          <a:blip r:embed="rId3"/>
          <a:stretch/>
        </p:blipFill>
        <p:spPr>
          <a:xfrm>
            <a:off x="6072120" y="3000240"/>
            <a:ext cx="1857600" cy="2457720"/>
          </a:xfrm>
          <a:prstGeom prst="rect">
            <a:avLst/>
          </a:prstGeom>
          <a:ln w="0">
            <a:noFill/>
          </a:ln>
        </p:spPr>
      </p:pic>
      <p:sp>
        <p:nvSpPr>
          <p:cNvPr id="56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0" descr="C:\Users\Миллениум\Desktop\мама\Без названия.jpg"/>
          <p:cNvPicPr/>
          <p:nvPr/>
        </p:nvPicPr>
        <p:blipFill>
          <a:blip r:embed="rId4"/>
          <a:stretch/>
        </p:blipFill>
        <p:spPr>
          <a:xfrm>
            <a:off x="928800" y="714240"/>
            <a:ext cx="2609640" cy="1752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C:\Users\Миллениум\Desktop\мама\Без названия (1).jpg"/>
          <p:cNvPicPr/>
          <p:nvPr/>
        </p:nvPicPr>
        <p:blipFill>
          <a:blip r:embed="rId5"/>
          <a:stretch/>
        </p:blipFill>
        <p:spPr>
          <a:xfrm>
            <a:off x="5429160" y="714240"/>
            <a:ext cx="2705040" cy="16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2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500120"/>
            <a:ext cx="79725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Майя Михайловна Плисецкая, Анастасия Юрьевна Волочкова, Екатерина Борисовна Кондаурова, Мария Александровна Александрова. Все эти женщины внесли огромный вклад в культурное наследие России. С какой профессией они связали свою жизн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2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714240" y="1071720"/>
            <a:ext cx="79725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есь вечер, как птичка, порхает Марина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Надев из бумаги воздушную пачку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на на диван посадила собачку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Пушистого зайца, лилового мишку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Тимошку - кота - сорванца и воришку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С полдюжины кукол и клоун у ног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-Внимание, зрители, третий звонок!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И замерли куклы, раскрывши глазенки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Они не узнали знакомой девчонки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В малюсенькой комнатке тайна вершилась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Под музыку белая лебедь кружилась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7080" y="549360"/>
            <a:ext cx="7738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2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857160" y="4571640"/>
            <a:ext cx="6500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Bookman Old Style"/>
              </a:rPr>
              <a:t>Ответ: балерин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Рисунок 3" descr="Раскраски балерин для девочек"/>
          <p:cNvPicPr/>
          <p:nvPr/>
        </p:nvPicPr>
        <p:blipFill>
          <a:blip r:embed="rId1"/>
          <a:stretch/>
        </p:blipFill>
        <p:spPr>
          <a:xfrm rot="20241600">
            <a:off x="1120680" y="1846440"/>
            <a:ext cx="1928880" cy="250020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5" descr="Балерины из мультфильма &quot;Балерина&quot; - Мультфильм Балерина - YouLoveIt.ru"/>
          <p:cNvPicPr/>
          <p:nvPr/>
        </p:nvPicPr>
        <p:blipFill>
          <a:blip r:embed="rId2"/>
          <a:stretch/>
        </p:blipFill>
        <p:spPr>
          <a:xfrm rot="1681800">
            <a:off x="6191280" y="1817280"/>
            <a:ext cx="1979640" cy="251784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6" descr="Прима-балерина Светлана Захарова провела благотворительный фестиваль  детского танца"/>
          <p:cNvPicPr/>
          <p:nvPr/>
        </p:nvPicPr>
        <p:blipFill>
          <a:blip r:embed="rId3"/>
          <a:stretch/>
        </p:blipFill>
        <p:spPr>
          <a:xfrm>
            <a:off x="3429000" y="1500120"/>
            <a:ext cx="2357280" cy="30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3 го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Bookman Old Style"/>
              </a:rPr>
              <a:t>Во время Великой Отечественной войны семью Агнии Барто эвакуировали в Свердловск. Там ей пришлось осваивать  новую профессию, немаловажную тогда. Работала она наравне с теми, кто имел большой опыт у станка. О какой профессии идё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5-конечная звезда 3"/>
          <p:cNvSpPr/>
          <p:nvPr/>
        </p:nvSpPr>
        <p:spPr>
          <a:xfrm>
            <a:off x="5786280" y="857160"/>
            <a:ext cx="474840" cy="474840"/>
          </a:xfrm>
          <a:prstGeom prst="pi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5-конечная звезда 4"/>
          <p:cNvSpPr/>
          <p:nvPr/>
        </p:nvSpPr>
        <p:spPr>
          <a:xfrm>
            <a:off x="8001000" y="3143160"/>
            <a:ext cx="474840" cy="474840"/>
          </a:xfrm>
          <a:prstGeom prst="pie">
            <a:avLst/>
          </a:prstGeom>
          <a:solidFill>
            <a:srgbClr val="00b05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Заголовок 1"/>
          <p:cNvSpPr/>
          <p:nvPr/>
        </p:nvSpPr>
        <p:spPr>
          <a:xfrm>
            <a:off x="64296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5-конечная звезда 6"/>
          <p:cNvSpPr/>
          <p:nvPr/>
        </p:nvSpPr>
        <p:spPr>
          <a:xfrm>
            <a:off x="5857920" y="4929120"/>
            <a:ext cx="474480" cy="474840"/>
          </a:xfrm>
          <a:prstGeom prst="pie">
            <a:avLst/>
          </a:prstGeom>
          <a:solidFill>
            <a:srgbClr val="7030a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Заголовок 1"/>
          <p:cNvSpPr/>
          <p:nvPr/>
        </p:nvSpPr>
        <p:spPr>
          <a:xfrm>
            <a:off x="928800" y="357120"/>
            <a:ext cx="82152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Миллениум</cp:lastModifiedBy>
  <dcterms:modified xsi:type="dcterms:W3CDTF">2021-03-15T16:42:20Z</dcterms:modified>
  <cp:revision>63</cp:revision>
  <dc:subject/>
  <dc:title>Слайд 1</dc:title>
</cp:coreProperties>
</file>